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F5F-553F-4A8B-B24D-A43F3E24DB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DF97-400D-4A7E-8ABE-720AF2BE4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F94-9104-4C2A-B10C-3CADE7703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C42-44B1-43DC-B7D8-67DCA7C00B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EE25-7045-4332-88A4-6B2B8196B9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105-4AF6-4DFE-BA28-C687CD65D7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6745-FB35-4DC2-AD6A-ACE8B6866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5724-3733-482A-B868-976D456101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253-FC2C-4DCA-B8B2-86DD80D4AF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05C1-059C-4E4F-A519-46773BC14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52B-90E7-4E17-8CCD-65B2EB1C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0F3-791F-4B7F-A6DA-E8489A95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E3B-BE28-45BC-A471-29644EFF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476-DF08-4E36-BF74-7144B11F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867-A81B-4133-B06C-99A06FB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C1D-138C-46CC-9E72-8554BD1A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D86-322D-4B54-BDAD-DECD7A83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0C7-187F-42B4-B584-AD7BBFB7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372-3E86-4865-B1D9-3C287974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120-3403-4499-98EC-F9E3C8F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D051-4640-4D0E-B189-1A04E6C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47F-2E6A-4ADC-9B4B-3150C2AD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309-5FB6-40C4-8C63-7903A5E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25C-C779-4824-ABF1-4D60E357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43A-D8E7-4245-BC16-CC05406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FFD-32A1-4B22-B692-96050287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310-CE5E-49CA-B4AE-87B57C69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057-093D-433A-9C34-627BCA2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88E-5582-4C77-A609-FBD717A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7C5-5077-42D1-B052-92533F2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9F1-B9D9-4EF5-A1F6-8F11601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A58-F36C-4FAD-B244-678CA4E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E4B-9BE0-480E-AB37-482C1D4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3B3-76A5-4B5D-835E-FAD773C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EAD-2F12-4803-BCE7-9F3F7E91C2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E0F2-BE77-40CF-97D3-542E08606F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785960" y="428616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1785960" y="1494000"/>
            <a:ext cx="68580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262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Е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143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6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6715440" cy="1428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64276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8"/>
          <p:cNvSpPr/>
          <p:nvPr/>
        </p:nvSpPr>
        <p:spPr>
          <a:xfrm flipH="1">
            <a:off x="257184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 flipH="1">
            <a:off x="271260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6"/>
          <p:cNvSpPr/>
          <p:nvPr/>
        </p:nvSpPr>
        <p:spPr>
          <a:xfrm>
            <a:off x="3714120" y="31431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8"/>
          <p:cNvSpPr/>
          <p:nvPr/>
        </p:nvSpPr>
        <p:spPr>
          <a:xfrm>
            <a:off x="371484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80"/>
          <p:cNvSpPr/>
          <p:nvPr/>
        </p:nvSpPr>
        <p:spPr>
          <a:xfrm>
            <a:off x="3714120" y="357192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2"/>
          <p:cNvSpPr/>
          <p:nvPr/>
        </p:nvSpPr>
        <p:spPr>
          <a:xfrm>
            <a:off x="3714840" y="371484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4"/>
          <p:cNvSpPr/>
          <p:nvPr/>
        </p:nvSpPr>
        <p:spPr>
          <a:xfrm>
            <a:off x="3643200" y="385776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6"/>
          <p:cNvSpPr/>
          <p:nvPr/>
        </p:nvSpPr>
        <p:spPr>
          <a:xfrm>
            <a:off x="42141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90"/>
          <p:cNvSpPr/>
          <p:nvPr/>
        </p:nvSpPr>
        <p:spPr>
          <a:xfrm>
            <a:off x="4357800" y="3000240"/>
            <a:ext cx="3571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471492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471492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471492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471492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471492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471492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471492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471492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0"/>
          <p:cNvSpPr/>
          <p:nvPr/>
        </p:nvSpPr>
        <p:spPr>
          <a:xfrm>
            <a:off x="4714920" y="407196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2"/>
          <p:cNvSpPr/>
          <p:nvPr/>
        </p:nvSpPr>
        <p:spPr>
          <a:xfrm flipH="1">
            <a:off x="485784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4"/>
          <p:cNvSpPr/>
          <p:nvPr/>
        </p:nvSpPr>
        <p:spPr>
          <a:xfrm flipH="1">
            <a:off x="500076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6"/>
          <p:cNvSpPr/>
          <p:nvPr/>
        </p:nvSpPr>
        <p:spPr>
          <a:xfrm flipH="1">
            <a:off x="514368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8"/>
          <p:cNvSpPr/>
          <p:nvPr/>
        </p:nvSpPr>
        <p:spPr>
          <a:xfrm>
            <a:off x="5500080" y="285768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27"/>
          <p:cNvSpPr/>
          <p:nvPr/>
        </p:nvSpPr>
        <p:spPr>
          <a:xfrm flipV="1">
            <a:off x="535788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5"/>
          <p:cNvSpPr/>
          <p:nvPr/>
        </p:nvSpPr>
        <p:spPr>
          <a:xfrm>
            <a:off x="642924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47"/>
          <p:cNvSpPr/>
          <p:nvPr/>
        </p:nvSpPr>
        <p:spPr>
          <a:xfrm>
            <a:off x="642924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49"/>
          <p:cNvSpPr/>
          <p:nvPr/>
        </p:nvSpPr>
        <p:spPr>
          <a:xfrm>
            <a:off x="642924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1"/>
          <p:cNvSpPr/>
          <p:nvPr/>
        </p:nvSpPr>
        <p:spPr>
          <a:xfrm>
            <a:off x="642924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3"/>
          <p:cNvSpPr/>
          <p:nvPr/>
        </p:nvSpPr>
        <p:spPr>
          <a:xfrm>
            <a:off x="642924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5"/>
          <p:cNvSpPr/>
          <p:nvPr/>
        </p:nvSpPr>
        <p:spPr>
          <a:xfrm>
            <a:off x="642924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57"/>
          <p:cNvSpPr/>
          <p:nvPr/>
        </p:nvSpPr>
        <p:spPr>
          <a:xfrm>
            <a:off x="642924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59"/>
          <p:cNvSpPr/>
          <p:nvPr/>
        </p:nvSpPr>
        <p:spPr>
          <a:xfrm>
            <a:off x="642924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1"/>
          <p:cNvSpPr/>
          <p:nvPr/>
        </p:nvSpPr>
        <p:spPr>
          <a:xfrm>
            <a:off x="642924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1215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733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Е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857240" y="1571760"/>
            <a:ext cx="67867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85960" y="228240"/>
            <a:ext cx="72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 Е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785960" y="1857240"/>
            <a:ext cx="70120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 Ё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6943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9:10:44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